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5.png" ContentType="image/png"/>
  <Override PartName="/ppt/media/image6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4C1-14C8-4D90-BE67-495B82FF6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0399-3EF5-4755-AC38-9418254F50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663-C275-42FD-9939-BA2596C4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DEA-77AC-4A21-A9A2-DE64ACA0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112-A22E-4606-B89F-0627BE6B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DEE-C0E5-49BA-A86A-7937236F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8E1-CF11-4E0D-ADB1-AE193014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C63-470F-49A6-A419-6665E75E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6D0-1ECB-447C-8FE2-ED0E8F7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BDD-94B0-4E59-902D-3D9EF5A7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5D5-243B-4E2E-B76E-7D610266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936-F47F-4EBC-BAE6-F40E536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A4A-729D-4DF2-874C-2F457EC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E0E-B24A-475A-BED9-398A5C0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053F-1FBB-42D9-AE69-22369687A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2280" y="668160"/>
            <a:ext cx="876312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swer Questions 1-5 of the Newton’s Textbook Assignme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</a:rPr>
              <a:t>Use Textbook Pages 48-49 to help find your answ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12576" r="0" b="33865"/>
          <a:stretch/>
        </p:blipFill>
        <p:spPr>
          <a:xfrm>
            <a:off x="2057400" y="5334120"/>
            <a:ext cx="4556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ewton’s 3</a:t>
            </a:r>
            <a:r>
              <a:rPr b="1" lang="en-US" sz="7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67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Newton’s Third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f one object exerts a force on another object, then the second object exerts a force of equal strength in the opposite direction on the first objec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Action/React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89F-1DB2-46B9-9345-38CFCB002B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n other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For every action there is an equal but opposite reactio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336-18DE-49F0-866B-A19D8EAE2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Newton’s Third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one object exerts a force on another object, then the second object exerts a force of equal strength in the opposite direction on the firs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Action/Re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61F-55DA-48DF-A3E5-D22462CE55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304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129760"/>
            <a:ext cx="8839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ewton’s 3 Laws of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Law Examp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12960" cy="1352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assoonPrimaryType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SassoonPrimaryType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SassoonPrimaryType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SassoonPrimaryType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080" y="1447920"/>
            <a:ext cx="8762760" cy="3047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ollowing i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89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little mass and little acceleration will have littl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a large mass and small acceleration can exert a large amount of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small mass and large acceleration can exert a large amount of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with a large mass and large acceleration will exert a littl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54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Textbook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Textbook Assignment Questions 6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Notes and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ton’s Laws of Motio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Force, Mass, and Acceleration rel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0404C3D5-FA0F-4263-B855-FC0312833098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and collect data from multiple trials, about the motion that results when the same force acts on objects of different mass and what happens when a large or a small force acts on objects of the same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Question 2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ewton’s 3 Laws of Mo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Newton’s First La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 object at rest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ays at re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unles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c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ct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 object in motion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ays in mo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unles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rc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ct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(LAW OF INERTI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 Exam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FFC-A2DD-4763-B85C-A5315754C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ext pages 52-54 and complet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column and questions 6 &amp;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ext pages 64-66 and complet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 column and questions 8 &amp;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examples of Newton’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s in action and record them on the back of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iscuss and share other examples shor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Newton’s Second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net force on an object is equal to the product of its acceleration and its mas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Force =mass x accele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D59-4A3D-4CE0-9DF8-EBDFE272A2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LAW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304560" y="4309920"/>
            <a:ext cx="1523880" cy="254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52480" y="3146400"/>
            <a:ext cx="7391520" cy="371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ORCE = MASS X ACCEL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n other word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g things need more force to move and sto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Little things can accelerate easier than big thing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648-B498-4E4E-919C-18D2E00BD6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Newton’s Second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et force on an object is equal to the product of its acceleration and it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Force =mass x accele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367-0337-498B-8081-C21F0B704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1:36:59Z</dcterms:created>
  <dc:creator>krmihal</dc:creator>
  <dc:description/>
  <dc:language>en-US</dc:language>
  <cp:lastModifiedBy>krmihal</cp:lastModifiedBy>
  <dcterms:modified xsi:type="dcterms:W3CDTF">2010-05-11T11:37:18Z</dcterms:modified>
  <cp:revision>1</cp:revision>
  <dc:subject/>
  <dc:title>Slide 1</dc:title>
</cp:coreProperties>
</file>